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5.gif" ContentType="image/gif"/>
  <Override PartName="/ppt/media/image23.jpeg" ContentType="image/jpeg"/>
  <Override PartName="/ppt/media/image12.png" ContentType="image/png"/>
  <Override PartName="/ppt/media/image21.gif" ContentType="image/gif"/>
  <Override PartName="/ppt/media/image14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8.png" ContentType="image/png"/>
  <Override PartName="/ppt/media/image28.gif" ContentType="image/gif"/>
  <Override PartName="/ppt/media/image11.jpeg" ContentType="image/jpeg"/>
  <Override PartName="/ppt/media/image9.jpeg" ContentType="image/jpeg"/>
  <Override PartName="/ppt/media/image13.png" ContentType="image/png"/>
  <Override PartName="/ppt/media/image35.png" ContentType="image/png"/>
  <Override PartName="/ppt/media/image32.gif" ContentType="image/gif"/>
  <Override PartName="/ppt/media/image5.jpeg" ContentType="image/jpeg"/>
  <Override PartName="/ppt/media/image26.jpeg" ContentType="image/jpeg"/>
  <Override PartName="/ppt/media/image36.png" ContentType="image/png"/>
  <Override PartName="/ppt/media/image30.wmf" ContentType="image/x-wmf"/>
  <Override PartName="/ppt/media/image34.gif" ContentType="image/gif"/>
  <Override PartName="/ppt/media/image37.wmf" ContentType="image/x-wmf"/>
  <Override PartName="/ppt/media/image17.png" ContentType="image/png"/>
  <Override PartName="/ppt/media/image38.gif" ContentType="image/gif"/>
  <Override PartName="/ppt/media/image31.wmf" ContentType="image/x-wmf"/>
  <Override PartName="/ppt/media/image7.jpeg" ContentType="image/jpeg"/>
  <Override PartName="/ppt/media/image6.gif" ContentType="image/gif"/>
  <Override PartName="/ppt/media/image4.png" ContentType="image/png"/>
  <Override PartName="/ppt/media/image33.png" ContentType="image/png"/>
  <Override PartName="/ppt/media/image3.png" ContentType="image/png"/>
  <Override PartName="/ppt/media/image2.png" ContentType="image/png"/>
  <Override PartName="/ppt/media/image10.png" ContentType="image/png"/>
  <Override PartName="/ppt/media/image1.jpeg" ContentType="image/jpeg"/>
  <Override PartName="/ppt/media/image27.gif" ContentType="image/gif"/>
  <Override PartName="/ppt/media/image22.jpeg" ContentType="image/jpeg"/>
  <Override PartName="/ppt/media/image39.png" ContentType="image/png"/>
  <Override PartName="/ppt/media/image24.jpeg" ContentType="image/jpeg"/>
  <Override PartName="/ppt/media/image1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4EDB-E70E-4437-B138-AA48E5A95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A34-3482-4FE4-B283-1F7BC8C5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1E3-0D80-4BF7-9EB0-65190BC7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112-AA59-4BE9-9B56-96066BF0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416-9E77-4C3B-A92F-153036B9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B60-6249-4401-9694-812EA440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7D6F-E605-4BF2-A5AA-474D2FE7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61B-4AE4-486C-9590-D7D283BC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331-737E-4220-8833-A1FC2921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C526-1E47-4D2F-8D3D-B30EF8C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01B-7034-4DEE-A59C-C25459D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73F-8C00-4B87-B352-835BEE3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EE7-52C1-4C5B-B042-11E85FAFC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image" Target="../media/image21.gif"/><Relationship Id="rId12" Type="http://schemas.openxmlformats.org/officeDocument/2006/relationships/image" Target="../media/image21.gif"/><Relationship Id="rId13" Type="http://schemas.openxmlformats.org/officeDocument/2006/relationships/image" Target="../media/image21.gif"/><Relationship Id="rId14" Type="http://schemas.openxmlformats.org/officeDocument/2006/relationships/image" Target="../media/image21.gif"/><Relationship Id="rId15" Type="http://schemas.openxmlformats.org/officeDocument/2006/relationships/image" Target="../media/image21.gif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9.wmf"/><Relationship Id="rId12" Type="http://schemas.openxmlformats.org/officeDocument/2006/relationships/image" Target="../media/image30.wmf"/><Relationship Id="rId13" Type="http://schemas.openxmlformats.org/officeDocument/2006/relationships/image" Target="../media/image31.wmf"/><Relationship Id="rId14" Type="http://schemas.openxmlformats.org/officeDocument/2006/relationships/image" Target="../media/image32.gif"/><Relationship Id="rId15" Type="http://schemas.openxmlformats.org/officeDocument/2006/relationships/image" Target="../media/image33.png"/><Relationship Id="rId16" Type="http://schemas.openxmlformats.org/officeDocument/2006/relationships/image" Target="../media/image34.gif"/><Relationship Id="rId17" Type="http://schemas.openxmlformats.org/officeDocument/2006/relationships/image" Target="../media/image35.png"/><Relationship Id="rId18" Type="http://schemas.openxmlformats.org/officeDocument/2006/relationships/image" Target="../media/image29.wmf"/><Relationship Id="rId19" Type="http://schemas.openxmlformats.org/officeDocument/2006/relationships/image" Target="../media/image36.png"/><Relationship Id="rId20" Type="http://schemas.openxmlformats.org/officeDocument/2006/relationships/image" Target="../media/image30.wmf"/><Relationship Id="rId21" Type="http://schemas.openxmlformats.org/officeDocument/2006/relationships/image" Target="../media/image33.png"/><Relationship Id="rId22" Type="http://schemas.openxmlformats.org/officeDocument/2006/relationships/image" Target="../media/image37.wmf"/><Relationship Id="rId23" Type="http://schemas.openxmlformats.org/officeDocument/2006/relationships/image" Target="../media/image38.gif"/><Relationship Id="rId24" Type="http://schemas.openxmlformats.org/officeDocument/2006/relationships/image" Target="../media/image27.gif"/><Relationship Id="rId25" Type="http://schemas.openxmlformats.org/officeDocument/2006/relationships/image" Target="../media/image39.png"/><Relationship Id="rId26" Type="http://schemas.openxmlformats.org/officeDocument/2006/relationships/image" Target="../media/image25.gif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3.png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KJ010"/>
          <p:cNvPicPr/>
          <p:nvPr/>
        </p:nvPicPr>
        <p:blipFill>
          <a:blip r:embed="rId1"/>
          <a:stretch/>
        </p:blipFill>
        <p:spPr>
          <a:xfrm>
            <a:off x="-468360" y="0"/>
            <a:ext cx="10476000" cy="6883560"/>
          </a:xfrm>
          <a:prstGeom prst="rect">
            <a:avLst/>
          </a:prstGeom>
          <a:ln w="0">
            <a:noFill/>
          </a:ln>
        </p:spPr>
      </p:pic>
      <p:sp>
        <p:nvSpPr>
          <p:cNvPr id="42" name="WordArt 9"/>
          <p:cNvSpPr txBox="1"/>
          <p:nvPr/>
        </p:nvSpPr>
        <p:spPr>
          <a:xfrm>
            <a:off x="2411280" y="2924280"/>
            <a:ext cx="64818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Загадки звездного неб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3" name="Picture 4" descr="Картинка 23 из 4679"/>
          <p:cNvPicPr/>
          <p:nvPr/>
        </p:nvPicPr>
        <p:blipFill>
          <a:blip r:embed="rId2"/>
          <a:stretch/>
        </p:blipFill>
        <p:spPr>
          <a:xfrm>
            <a:off x="-214200" y="3889440"/>
            <a:ext cx="2143080" cy="2968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1" presetSubtype="2" repeatCount="indefinite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1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Картинка 80 из 36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D:\Общие документы\КАРТИНКИ\АНИМИРОВАННЫЕ КАРТИНКИ\1 (432).gif"/>
          <p:cNvPicPr/>
          <p:nvPr/>
        </p:nvPicPr>
        <p:blipFill>
          <a:blip r:embed="rId3"/>
          <a:stretch/>
        </p:blipFill>
        <p:spPr>
          <a:xfrm>
            <a:off x="324000" y="62064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Picture 7" descr="D:\Общие документы\КАРТИНКИ\АНИМИРОВАННЫЕ КАРТИНКИ\1 (432).gif"/>
          <p:cNvPicPr/>
          <p:nvPr/>
        </p:nvPicPr>
        <p:blipFill>
          <a:blip r:embed="rId4"/>
          <a:stretch/>
        </p:blipFill>
        <p:spPr>
          <a:xfrm>
            <a:off x="3059280" y="83664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9" name="Picture 7" descr="D:\Общие документы\КАРТИНКИ\АНИМИРОВАННЫЕ КАРТИНКИ\1 (432).gif"/>
          <p:cNvPicPr/>
          <p:nvPr/>
        </p:nvPicPr>
        <p:blipFill>
          <a:blip r:embed="rId5"/>
          <a:stretch/>
        </p:blipFill>
        <p:spPr>
          <a:xfrm>
            <a:off x="4859280" y="306864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Picture 7" descr="D:\Общие документы\КАРТИНКИ\АНИМИРОВАННЫЕ КАРТИНКИ\1 (432).gif"/>
          <p:cNvPicPr/>
          <p:nvPr/>
        </p:nvPicPr>
        <p:blipFill>
          <a:blip r:embed="rId6"/>
          <a:stretch/>
        </p:blipFill>
        <p:spPr>
          <a:xfrm>
            <a:off x="5148360" y="83664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1" name="Picture 7" descr="D:\Общие документы\КАРТИНКИ\АНИМИРОВАННЫЕ КАРТИНКИ\1 (432).gif"/>
          <p:cNvPicPr/>
          <p:nvPr/>
        </p:nvPicPr>
        <p:blipFill>
          <a:blip r:embed="rId7"/>
          <a:stretch/>
        </p:blipFill>
        <p:spPr>
          <a:xfrm>
            <a:off x="8172360" y="2997360"/>
            <a:ext cx="609840" cy="42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7" descr="D:\Общие документы\КАРТИНКИ\АНИМИРОВАННЫЕ КАРТИНКИ\1 (432).gif"/>
          <p:cNvPicPr/>
          <p:nvPr/>
        </p:nvPicPr>
        <p:blipFill>
          <a:blip r:embed="rId8"/>
          <a:stretch/>
        </p:blipFill>
        <p:spPr>
          <a:xfrm>
            <a:off x="7093080" y="443700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7" descr="D:\Общие документы\КАРТИНКИ\АНИМИРОВАННЫЕ КАРТИНКИ\1 (432).gif"/>
          <p:cNvPicPr/>
          <p:nvPr/>
        </p:nvPicPr>
        <p:blipFill>
          <a:blip r:embed="rId9"/>
          <a:stretch/>
        </p:blipFill>
        <p:spPr>
          <a:xfrm>
            <a:off x="5076720" y="5157720"/>
            <a:ext cx="60984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7" descr="D:\Общие документы\КАРТИНКИ\АНИМИРОВАННЫЕ КАРТИНКИ\1 (432).gif"/>
          <p:cNvPicPr/>
          <p:nvPr/>
        </p:nvPicPr>
        <p:blipFill>
          <a:blip r:embed="rId10"/>
          <a:stretch/>
        </p:blipFill>
        <p:spPr>
          <a:xfrm>
            <a:off x="3276720" y="5950080"/>
            <a:ext cx="609480" cy="42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5" name="Picture 7" descr="D:\Общие документы\КАРТИНКИ\АНИМИРОВАННЫЕ КАРТИНКИ\1 (432).gif"/>
          <p:cNvPicPr/>
          <p:nvPr/>
        </p:nvPicPr>
        <p:blipFill>
          <a:blip r:embed="rId11"/>
          <a:stretch/>
        </p:blipFill>
        <p:spPr>
          <a:xfrm>
            <a:off x="755640" y="573408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Picture 7" descr="D:\Общие документы\КАРТИНКИ\АНИМИРОВАННЫЕ КАРТИНКИ\1 (432).gif"/>
          <p:cNvPicPr/>
          <p:nvPr/>
        </p:nvPicPr>
        <p:blipFill>
          <a:blip r:embed="rId12"/>
          <a:stretch/>
        </p:blipFill>
        <p:spPr>
          <a:xfrm>
            <a:off x="1187280" y="2781360"/>
            <a:ext cx="609840" cy="428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7" name="Picture 7" descr="D:\Общие документы\КАРТИНКИ\АНИМИРОВАННЫЕ КАРТИНКИ\1 (432).gif"/>
          <p:cNvPicPr/>
          <p:nvPr/>
        </p:nvPicPr>
        <p:blipFill>
          <a:blip r:embed="rId13"/>
          <a:stretch/>
        </p:blipFill>
        <p:spPr>
          <a:xfrm>
            <a:off x="3203640" y="386064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7" descr="D:\Общие документы\КАРТИНКИ\АНИМИРОВАННЫЕ КАРТИНКИ\1 (432).gif"/>
          <p:cNvPicPr/>
          <p:nvPr/>
        </p:nvPicPr>
        <p:blipFill>
          <a:blip r:embed="rId14"/>
          <a:stretch/>
        </p:blipFill>
        <p:spPr>
          <a:xfrm>
            <a:off x="6877080" y="134136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7" descr="D:\Общие документы\КАРТИНКИ\АНИМИРОВАННЫЕ КАРТИНКИ\1 (432).gif"/>
          <p:cNvPicPr/>
          <p:nvPr/>
        </p:nvPicPr>
        <p:blipFill>
          <a:blip r:embed="rId15"/>
          <a:stretch/>
        </p:blipFill>
        <p:spPr>
          <a:xfrm>
            <a:off x="6877080" y="5734080"/>
            <a:ext cx="609480" cy="428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" descr=""/>
          <p:cNvPicPr/>
          <p:nvPr/>
        </p:nvPicPr>
        <p:blipFill>
          <a:blip r:embed="rId1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H:\Новая папка\0_23b09_6001efd6_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52" name=""/>
          <p:cNvSpPr txBox="1"/>
          <p:nvPr/>
        </p:nvSpPr>
        <p:spPr>
          <a:xfrm rot="20324400">
            <a:off x="336600" y="550800"/>
            <a:ext cx="2736720" cy="6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ликодушие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492360" y="260280"/>
            <a:ext cx="252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добро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692360" y="1125360"/>
            <a:ext cx="31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доброжелательность</a:t>
            </a:r>
            <a:endParaRPr b="1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 rot="1230600">
            <a:off x="5435640" y="184428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доверие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348000" y="2133720"/>
            <a:ext cx="2664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дружелюби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 rot="19611600">
            <a:off x="0" y="2492280"/>
            <a:ext cx="2449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искренность</a:t>
            </a:r>
            <a:endParaRPr b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372360" y="2924280"/>
            <a:ext cx="25192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находчивость</a:t>
            </a:r>
            <a:endParaRPr b="1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 rot="1617600">
            <a:off x="6624360" y="620640"/>
            <a:ext cx="25192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ответственность</a:t>
            </a:r>
            <a:endParaRPr b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68360" y="3141720"/>
            <a:ext cx="25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признатель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 rot="1393200">
            <a:off x="6192720" y="4076280"/>
            <a:ext cx="29512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самоотверж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50920" y="407664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сострадание</a:t>
            </a:r>
            <a:endParaRPr b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51640" y="5445000"/>
            <a:ext cx="3166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терпимость</a:t>
            </a:r>
            <a:endParaRPr b="1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708360" y="4437000"/>
            <a:ext cx="251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чуткость</a:t>
            </a:r>
            <a:endParaRPr b="1" lang="en-US" sz="1800" spc="1" strike="noStrike">
              <a:ln w="0">
                <a:noFill/>
              </a:ln>
              <a:solidFill>
                <a:srgbClr val="00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5084640"/>
            <a:ext cx="3600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целеустремлённость</a:t>
            </a:r>
            <a:endParaRPr b="1" lang="en-US" sz="1800" spc="1" strike="noStrike">
              <a:ln w="0">
                <a:noFill/>
              </a:ln>
              <a:solidFill>
                <a:srgbClr val="ff0066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484360" y="587700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трудолюбие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4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сня про созвезд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10404360" cy="6966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3" dur="1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KJ006 коп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6443640" cy="1596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0" y="189000"/>
            <a:ext cx="4284720" cy="1614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3035160" y="1085760"/>
            <a:ext cx="541440" cy="5428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468360" y="189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0" y="1285920"/>
            <a:ext cx="544680" cy="542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3637080" y="0"/>
            <a:ext cx="541080" cy="542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1979640" y="189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1595520" y="1185840"/>
            <a:ext cx="544320" cy="542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0" y="3727440"/>
            <a:ext cx="922320" cy="3636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0" y="4575240"/>
            <a:ext cx="712800" cy="6206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3"/>
          <a:stretch/>
        </p:blipFill>
        <p:spPr>
          <a:xfrm>
            <a:off x="3322800" y="3976560"/>
            <a:ext cx="666720" cy="628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14"/>
          <a:stretch/>
        </p:blipFill>
        <p:spPr>
          <a:xfrm>
            <a:off x="3322800" y="3478320"/>
            <a:ext cx="955440" cy="625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5"/>
          <a:stretch/>
        </p:blipFill>
        <p:spPr>
          <a:xfrm>
            <a:off x="7067520" y="3627360"/>
            <a:ext cx="876240" cy="600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16"/>
          <a:stretch/>
        </p:blipFill>
        <p:spPr>
          <a:xfrm>
            <a:off x="5532480" y="4525920"/>
            <a:ext cx="1827000" cy="6444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17"/>
          <a:stretch/>
        </p:blipFill>
        <p:spPr>
          <a:xfrm>
            <a:off x="6877080" y="5872320"/>
            <a:ext cx="595440" cy="2696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8"/>
          <a:stretch/>
        </p:blipFill>
        <p:spPr>
          <a:xfrm>
            <a:off x="1979640" y="3976560"/>
            <a:ext cx="958680" cy="3794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9"/>
          <a:stretch/>
        </p:blipFill>
        <p:spPr>
          <a:xfrm>
            <a:off x="324000" y="3141720"/>
            <a:ext cx="1995480" cy="19303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0"/>
          <a:stretch/>
        </p:blipFill>
        <p:spPr>
          <a:xfrm>
            <a:off x="2363760" y="3478320"/>
            <a:ext cx="657360" cy="571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1"/>
          <a:stretch/>
        </p:blipFill>
        <p:spPr>
          <a:xfrm>
            <a:off x="2554200" y="4227480"/>
            <a:ext cx="804960" cy="549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2"/>
          <a:stretch/>
        </p:blipFill>
        <p:spPr>
          <a:xfrm>
            <a:off x="347760" y="4127400"/>
            <a:ext cx="904680" cy="552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3"/>
          <a:stretch/>
        </p:blipFill>
        <p:spPr>
          <a:xfrm>
            <a:off x="3419640" y="5600880"/>
            <a:ext cx="657000" cy="12571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4"/>
          <a:stretch/>
        </p:blipFill>
        <p:spPr>
          <a:xfrm>
            <a:off x="0" y="189000"/>
            <a:ext cx="4284720" cy="1614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1285824878_sun2"/>
          <p:cNvPicPr/>
          <p:nvPr/>
        </p:nvPicPr>
        <p:blipFill>
          <a:blip r:embed="rId25"/>
          <a:stretch/>
        </p:blipFill>
        <p:spPr>
          <a:xfrm>
            <a:off x="6840360" y="0"/>
            <a:ext cx="2303640" cy="20257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6"/>
          <a:stretch/>
        </p:blipFill>
        <p:spPr>
          <a:xfrm>
            <a:off x="3708360" y="2708280"/>
            <a:ext cx="528012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3" descr=""/>
          <p:cNvPicPr/>
          <p:nvPr/>
        </p:nvPicPr>
        <p:blipFill>
          <a:blip r:embed="rId1"/>
          <a:stretch/>
        </p:blipFill>
        <p:spPr>
          <a:xfrm>
            <a:off x="234000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Rectangl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mediacall" presetID="1">
                                  <p:stCondLst>
                                    <p:cond delay="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mediacall" presetID="1">
                                  <p:stCondLst>
                                    <p:cond delay="1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ездное неб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:\Новая папка\sk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15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345960" cy="360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596360" y="2060640"/>
            <a:ext cx="345960" cy="36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5580000" y="836640"/>
            <a:ext cx="345960" cy="36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3419640" y="476280"/>
            <a:ext cx="3459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07880" y="2276640"/>
            <a:ext cx="84981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звезд на небе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бесчисленное множество,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и все их пересчитать невозможно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2349360"/>
            <a:ext cx="849780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ежегодно в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галактике рождается 5 новых звезд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4200" y="2349360"/>
            <a:ext cx="8929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звезды живут вечно.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38040" y="3068640"/>
            <a:ext cx="874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звезды движутся.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2492280"/>
            <a:ext cx="82072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звезда твердая.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7240" y="2637000"/>
            <a:ext cx="8999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у каждой звезды есть планеты.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6200" y="2781360"/>
            <a:ext cx="8497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черная дыра существует.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00000" y="33336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Верю, не вер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95280" y="2924280"/>
            <a:ext cx="83534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все звезды одинаковые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25520" y="2781360"/>
            <a:ext cx="8351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Верите ли вы, что Солнце это звезда.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вездное небо в редшиф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3345" t="4965" r="0" b="0"/>
          <a:stretch/>
        </p:blipFill>
        <p:spPr>
          <a:xfrm>
            <a:off x="0" y="0"/>
            <a:ext cx="9144000" cy="71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5" descr="H:\Новая папка\0_2afb5_85d8f6f4_XL.jpg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444600" y="1360440"/>
            <a:ext cx="34844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Century Gothic"/>
              </a:rPr>
              <a:t>Желт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214960" y="3432240"/>
            <a:ext cx="3429000" cy="45972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444600" y="2360520"/>
            <a:ext cx="34844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Century Gothic"/>
              </a:rPr>
              <a:t>Бел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5214960" y="5504040"/>
            <a:ext cx="3429000" cy="45972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44600" y="3403440"/>
            <a:ext cx="34844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Кра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214960" y="2360520"/>
            <a:ext cx="3429000" cy="45972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44600" y="4475160"/>
            <a:ext cx="34844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Голуб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214960" y="1360440"/>
            <a:ext cx="3429000" cy="45972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4"/>
          <p:cNvSpPr/>
          <p:nvPr/>
        </p:nvSpPr>
        <p:spPr>
          <a:xfrm>
            <a:off x="444600" y="5475240"/>
            <a:ext cx="3484440" cy="45972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194d"/>
                </a:solidFill>
                <a:latin typeface="Arial"/>
              </a:rPr>
              <a:t>Оранже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5214960" y="4475160"/>
            <a:ext cx="3429000" cy="459720"/>
          </a:xfrm>
          <a:prstGeom prst="rect">
            <a:avLst/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Картинка 21 из 170622"/>
          <p:cNvPicPr/>
          <p:nvPr/>
        </p:nvPicPr>
        <p:blipFill>
          <a:blip r:embed="rId2"/>
          <a:stretch/>
        </p:blipFill>
        <p:spPr>
          <a:xfrm>
            <a:off x="3635280" y="0"/>
            <a:ext cx="1763640" cy="176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325 L 3.61111E-006 -0.30765 E">
                                      <p:cBhvr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325 L 3.61111E-006 0.29698 E">
                                      <p:cBhvr>
                                        <p:cTn id="11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324 L 3.61111E-006 -0.4646 E">
                                      <p:cBhvr>
                                        <p:cTn id="12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0.00626 L 3.61111E-006 0.45277 E">
                                      <p:cBhvr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45277 L 3.61111E-006 0.15115 E">
                                      <p:cBhvr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29685 L 3.61111E-006 0.59786 E">
                                      <p:cBhvr>
                                        <p:cTn id="13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5986 L 3.61111E-006 0.45439 E">
                                      <p:cBhvr>
                                        <p:cTn id="14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023 L 3.61111E-006 0.15092 E">
                                      <p:cBhvr>
                                        <p:cTn id="14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1557360"/>
            <a:ext cx="752400" cy="747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796000" y="333360"/>
            <a:ext cx="609480" cy="604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0"/>
            <a:ext cx="609480" cy="604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8244000" y="549360"/>
            <a:ext cx="610920" cy="606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4284720" y="0"/>
            <a:ext cx="681120" cy="676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7093080" y="1125360"/>
            <a:ext cx="680760" cy="676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627280" y="260280"/>
            <a:ext cx="824040" cy="8193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9"/>
          <a:stretch/>
        </p:blipFill>
        <p:spPr>
          <a:xfrm>
            <a:off x="0" y="2637000"/>
            <a:ext cx="1832040" cy="1819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1187280" y="1916280"/>
            <a:ext cx="609840" cy="604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1"/>
          <a:stretch/>
        </p:blipFill>
        <p:spPr>
          <a:xfrm>
            <a:off x="4788000" y="1125360"/>
            <a:ext cx="609480" cy="605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2"/>
          <a:stretch/>
        </p:blipFill>
        <p:spPr>
          <a:xfrm>
            <a:off x="2195640" y="1557360"/>
            <a:ext cx="752400" cy="74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3"/>
          <a:stretch/>
        </p:blipFill>
        <p:spPr>
          <a:xfrm>
            <a:off x="2050920" y="2565360"/>
            <a:ext cx="1511280" cy="150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14"/>
          <a:stretch/>
        </p:blipFill>
        <p:spPr>
          <a:xfrm>
            <a:off x="5867280" y="1268280"/>
            <a:ext cx="609840" cy="6048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5"/>
          <a:stretch/>
        </p:blipFill>
        <p:spPr>
          <a:xfrm>
            <a:off x="7524720" y="2852640"/>
            <a:ext cx="1619280" cy="160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6"/>
          <a:stretch/>
        </p:blipFill>
        <p:spPr>
          <a:xfrm>
            <a:off x="5508720" y="2205000"/>
            <a:ext cx="976320" cy="10238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7"/>
          <a:stretch/>
        </p:blipFill>
        <p:spPr>
          <a:xfrm>
            <a:off x="503280" y="3068640"/>
            <a:ext cx="785880" cy="824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8"/>
          <a:stretch/>
        </p:blipFill>
        <p:spPr>
          <a:xfrm>
            <a:off x="2050920" y="2565360"/>
            <a:ext cx="1541520" cy="1617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9"/>
          <a:stretch/>
        </p:blipFill>
        <p:spPr>
          <a:xfrm>
            <a:off x="7596360" y="3213000"/>
            <a:ext cx="1225440" cy="1138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0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сто 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.0)">
                                      <p:cBhvr>
                                        <p:cTn id="16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8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0" r="6282" b="62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50920" y="1139760"/>
            <a:ext cx="424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bfa"/>
                    </a:gs>
                    <a:gs pos="5000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Возду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bfa"/>
                  </a:gs>
                  <a:gs pos="5000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4221000"/>
            <a:ext cx="424800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5000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Ого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5000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235480" y="1225440"/>
            <a:ext cx="378000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50000">
                      <a:srgbClr val="ccccff"/>
                    </a:gs>
                    <a:gs pos="100000">
                      <a:srgbClr val="cccc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В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50000">
                    <a:srgbClr val="ccccff"/>
                  </a:gs>
                  <a:gs pos="100000">
                    <a:srgbClr val="ccccff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52880" y="4249800"/>
            <a:ext cx="3924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56b13"/>
                    </a:gs>
                    <a:gs pos="50000">
                      <a:srgbClr val="ddebcf"/>
                    </a:gs>
                    <a:gs pos="100000">
                      <a:srgbClr val="156b1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Земл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56b13"/>
                  </a:gs>
                  <a:gs pos="5000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19280" y="190440"/>
            <a:ext cx="6119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Знаки зодиа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125360"/>
            <a:ext cx="42624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Овен: 21 марта - 20 апреля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16360" y="1542960"/>
            <a:ext cx="41515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елец: 21 апреля - 20 мая </a:t>
            </a:r>
            <a:endParaRPr b="1" lang="en-US" sz="1800" spc="1" strike="noStrike">
              <a:ln w="0">
                <a:noFill/>
              </a:ln>
              <a:solidFill>
                <a:srgbClr val="cc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95280" y="2033640"/>
            <a:ext cx="43592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Близнецы: 21 мая - 20 июня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89560" y="2508120"/>
            <a:ext cx="3652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Рак: 21 июня - 22 июля 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5280" y="2997360"/>
            <a:ext cx="3951360" cy="46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Лев: 23 июля - 22 августа</a:t>
            </a:r>
            <a:endParaRPr b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276800" y="3457440"/>
            <a:ext cx="47671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Дева: 23 августа - 23 сентября</a:t>
            </a:r>
            <a:endParaRPr b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50920" y="3948120"/>
            <a:ext cx="460044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есы: 24 сентября - 23 октября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459320" y="4394160"/>
            <a:ext cx="468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корпион: 24 октября - 21 ноября 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50920" y="4884840"/>
            <a:ext cx="496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трелец: 22 ноября - 21 декабря </a:t>
            </a:r>
            <a:endParaRPr b="1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08200" y="5300640"/>
            <a:ext cx="55454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озерог: 22 декабря - 19 января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4000" y="5850000"/>
            <a:ext cx="533376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одолей: 20 января - 18 февраля </a:t>
            </a:r>
            <a:endParaRPr b="1" lang="en-US" sz="1800" spc="1" strike="noStrike">
              <a:ln w="0">
                <a:noFill/>
              </a:ln>
              <a:solidFill>
                <a:srgbClr val="ffff99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129200" y="6303960"/>
            <a:ext cx="488160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Рыбы: 19 февраля - 20 марта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2360" y="1052640"/>
            <a:ext cx="158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ес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484360" y="1627200"/>
            <a:ext cx="208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Водол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6720" y="2492280"/>
            <a:ext cx="25909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Близнец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81800" y="1195560"/>
            <a:ext cx="25909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3932280"/>
            <a:ext cx="259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Ов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093080" y="2708280"/>
            <a:ext cx="197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Р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52720" y="515628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Ле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5732640"/>
            <a:ext cx="2737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трел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229440" y="4219560"/>
            <a:ext cx="25905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Козеро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861080" y="5011560"/>
            <a:ext cx="25905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Тел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661080" y="5877000"/>
            <a:ext cx="2124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Де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61080" y="1916280"/>
            <a:ext cx="25905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Скорпи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99"/>
                                      </p:to>
                                    </p:animClr>
                                    <p:set>
                                      <p:cBhvr>
                                        <p:cTn id="17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5:41:22Z</dcterms:created>
  <dc:creator>Осиповы</dc:creator>
  <dc:description/>
  <dc:language>en-US</dc:language>
  <cp:lastModifiedBy>Осиповы</cp:lastModifiedBy>
  <dcterms:modified xsi:type="dcterms:W3CDTF">2012-01-29T17:08:16Z</dcterms:modified>
  <cp:revision>50</cp:revision>
  <dc:subject/>
  <dc:title>Внеклассное мероприятие</dc:title>
</cp:coreProperties>
</file>